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D5E2-9484-4C3E-8346-FDDB8049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213-BA86-409A-9007-EEA2F3E4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C3A2-918C-41C3-80B3-F44445D64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C8FF-8858-4C53-8F7E-51EC252AF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C283-DD93-413B-89D9-C4D2F81C0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6E49-D9B8-4B83-BAD7-1E68E6B63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7B75-34E7-46EF-976E-B70D19079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7201-1B31-4B6F-BFC1-ACA55490A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282D-705A-485E-9825-AA95EB629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F6CA-F936-41BF-B416-7E1149846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5A3D-A48F-4522-8BE0-2816EA1E8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0E79-7C14-44C2-9807-FC767239D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0E4B-FA89-4F70-B642-B5DE9014C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07E4-10BB-447F-97C2-CCB1400E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8"/>
          <p:cNvSpPr/>
          <p:nvPr/>
        </p:nvSpPr>
        <p:spPr>
          <a:xfrm>
            <a:off x="457200" y="114300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040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Perspectives on Microsoft Offic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BB4-27EE-49F3-815E-8C207E0FABD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0" y="6400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eba12"/>
          </a:solidFill>
          <a:ln w="25560">
            <a:solidFill>
              <a:srgbClr val="feb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3888000" y="3200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a12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0" y="3124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ba12"/>
                </a:solidFill>
                <a:latin typeface="Century"/>
              </a:rPr>
              <a:t>Microsoft  Office  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040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ces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taining and Querying a Database</a:t>
            </a:r>
            <a:endParaRPr b="1" lang="en-US" sz="3600" spc="-1" strike="noStrike">
              <a:solidFill>
                <a:srgbClr val="2040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orting Data in a Query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rt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process of rearranging records in a specified order o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ort records, you must select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rt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the field used to determine the order of records in the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AEF7-88B9-4DFC-8B18-9B81F0073D5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942840" y="3809880"/>
            <a:ext cx="6958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n AutoFilter to Sort Data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toFilt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 enables you to quickly sort and display field values in various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ing the arrow in a column heading displays the AutoFilter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567-8979-4217-A454-0D9C356933C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6957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orting a Query Datashee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935440"/>
            <a:ext cx="6956640" cy="147456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E6B-52C6-4214-ABC6-FF11F3BFA86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pecifying an Exact Match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ct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value in the specified field must match the condition exactly in order for the record to be included in the query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495E-C3FD-4EEA-B8A3-F4DDD7707F0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093680" y="2684520"/>
            <a:ext cx="6956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Changing a Datasheet</a:t>
            </a:r>
            <a:r>
              <a:rPr b="1" lang="ja-JP" sz="4000" spc="-1" strike="noStrike">
                <a:solidFill>
                  <a:srgbClr val="20409a"/>
                </a:solidFill>
                <a:latin typeface="Calibri"/>
              </a:rPr>
              <a:t>’</a:t>
            </a: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s Appearance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38" name="Content Placeholder 5" descr=""/>
          <p:cNvPicPr/>
          <p:nvPr/>
        </p:nvPicPr>
        <p:blipFill>
          <a:blip r:embed="rId1"/>
          <a:stretch/>
        </p:blipFill>
        <p:spPr>
          <a:xfrm>
            <a:off x="1131840" y="2373480"/>
            <a:ext cx="6956640" cy="259848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9CE-3FAD-43D9-AB4F-CC622422FC8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Using a Comparison Operator 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to Match a Range of Valu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4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849400"/>
            <a:ext cx="6956640" cy="1646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A0E9-0E0C-458E-8E92-AA4D9B75CB1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Defining Multiple Selection Criteria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for Queri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onditions require you to u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al operato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mbine two or mor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logical ope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want a record selected only if two or more conditions are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 logical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place conditions in different Criteria r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4710-9113-4A18-AE21-A21FBCB19D9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514600" y="4411800"/>
            <a:ext cx="36576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Defining Multiple Selection Criteria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for Queri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1131840" y="2932200"/>
            <a:ext cx="6956640" cy="148104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BB0E-831C-40BB-99EA-49DE2F02F1B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reating a Calculated Fiel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5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216160"/>
            <a:ext cx="6956640" cy="291312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A09-27A8-498E-B09C-8CFBD243428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Formatting a Calculated Fiel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pecify a particular format for a calculated field, just as you can for any field, by modifying its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8D5-18C2-43CC-9145-B626AB351EB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6958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Objective: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, modify, and delete records in 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how to use the Query window in Design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, run, and sav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data using a query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query based on multiple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data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data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399A-78B4-474D-B683-47A6974DC54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ggregate Function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e fun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arithmetic operations on selected records in a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quickly perform a calculation using an aggregate function in a table or query datasheet, you can use the Totals button in the Records group on the Home t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AB63-D66E-463B-8C60-FD30062D962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957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ggregate Function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1131840" y="2065320"/>
            <a:ext cx="6956640" cy="321480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A2F-60A2-4980-B5A2-4A377E1FA0A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Creating Queries 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with Aggregate Function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gate functions operate on the records that meet a quer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1C7-8CA7-455F-B6FC-BD99ACAFA30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093680" y="2736720"/>
            <a:ext cx="69566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Using Record Group Calculation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up By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s the selected records into groups based on the values in the specified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771-5FB4-4449-AC48-192A5A1CA9E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065240" y="2666880"/>
            <a:ext cx="695628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Working with the Navigation Pane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vigation Pane is the main area for working with the objects in a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vigation Pane divides database objects into categories, and each category contain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ccess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B985-6F5F-41A8-801E-28B7697A323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600200" y="4168800"/>
            <a:ext cx="5964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Objective: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an exact match condition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font size and alternate row color in a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comparison operator in a query to match a range of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nd and Or logical operators in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d format a calculated field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calculations in a query using aggregate functions and record group calc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display of database objects in the Navigation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DF2D-094F-43BF-875F-527C44DC85F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Query Window in Design View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01" name="Content Placeholder 10" descr=""/>
          <p:cNvPicPr/>
          <p:nvPr/>
        </p:nvPicPr>
        <p:blipFill>
          <a:blip r:embed="rId1"/>
          <a:stretch/>
        </p:blipFill>
        <p:spPr>
          <a:xfrm>
            <a:off x="228600" y="1239840"/>
            <a:ext cx="4419720" cy="470376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11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73360" cy="468936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B74-1E8A-4653-B68A-FC8FCD5A957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Finding Data in a Table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 comm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you to search a table or query datasheet, or a form, to locate a specific field value or part of a fiel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7E3-E176-4E14-8165-4A211B9C1A3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084320" y="2971800"/>
            <a:ext cx="69562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Deleting a Recor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09" name="Content Placeholder 5" descr=""/>
          <p:cNvPicPr/>
          <p:nvPr/>
        </p:nvPicPr>
        <p:blipFill>
          <a:blip r:embed="rId1"/>
          <a:stretch/>
        </p:blipFill>
        <p:spPr>
          <a:xfrm>
            <a:off x="1131840" y="2624040"/>
            <a:ext cx="6956640" cy="209736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2DD6-3AD8-44DE-A314-A19DF542B76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Introduction to Querie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Other group on the Create tab, click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ry Desig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79FE-AD7C-416B-AA38-2F1CBE9FF98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69580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Introduction to Querie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16" name="Content Placeholder 5" descr=""/>
          <p:cNvPicPr/>
          <p:nvPr/>
        </p:nvPicPr>
        <p:blipFill>
          <a:blip r:embed="rId1"/>
          <a:stretch/>
        </p:blipFill>
        <p:spPr>
          <a:xfrm>
            <a:off x="1131840" y="2062080"/>
            <a:ext cx="6956640" cy="322128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76B3-BB1C-4B72-B7DE-2479839861B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reating a Multitable Query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ultitable query is a query based on more than on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create a query that retrieves data from multiple tables, the tables must have a common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C87-9BAC-4599-B2AE-EF5E448565A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600200" y="3178080"/>
            <a:ext cx="62215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رنا العكرش</cp:lastModifiedBy>
  <dcterms:modified xsi:type="dcterms:W3CDTF">2014-03-05T19:46:52Z</dcterms:modified>
  <cp:revision>80</cp:revision>
  <dc:subject/>
  <dc:title>PowerPoint Presentation</dc:title>
</cp:coreProperties>
</file>